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91FF-D8AC-4562-8027-E667264F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70DF-C436-4D23-BC15-0EC8C45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8E99-F6DD-41C9-A62B-B66E3AD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EB5A-409E-4053-AA67-50190EA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6338-965C-4EA2-90E1-54D9D118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B5EF-7DF0-4570-A783-9F81B8BA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60C1-DCA5-4173-AFAF-819FCD25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77BD-86AF-4DD0-B04F-A334BDF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D645-266B-4AC2-890E-AB3C058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188-298B-4126-8CF3-D53EB3B7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3AE8-445B-4055-9E1B-3AA082B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541A-C8B2-4233-8918-3D367FE2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F15-0334-477E-9F9D-5E37CE5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FC8D-C4A6-4AF9-A1FA-CB8746A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EA24-346E-482F-AB88-1077392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BB4-8547-4344-BD71-D0BEF6CC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009-93A6-4282-AD86-29D93983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5005-0776-4EA8-850A-3D1DF14F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3D7C-7614-4E32-8CCA-FF70027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7F2B-A25C-4FB6-B032-EC8F819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B991-0367-429D-B62D-BC14EC0D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B523-261A-47D9-9FAF-49EBAD24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AFFB-5F7B-4E11-9DC2-06BE78F0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ACC9-5266-4BF6-A44C-40950DD7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1450-E300-482D-A729-827C7074BD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1C2-BE13-43E1-820C-6FE85A9A1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5e5ff"/>
                </a:solidFill>
                <a:latin typeface="Comic Sans MS"/>
              </a:rPr>
              <a:t>The Chemistry of Respi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175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176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189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190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e5e5ff"/>
                </a:solidFill>
                <a:uFillTx/>
                <a:latin typeface="Comic Sans MS"/>
              </a:rPr>
              <a:t>Aerobic Respi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Comic Sans MS"/>
              </a:rPr>
              <a:t>glucose + </a:t>
            </a:r>
            <a:r>
              <a:rPr b="0" lang="en-GB" sz="2400" spc="-1" strike="noStrike">
                <a:solidFill>
                  <a:srgbClr val="e5e5ff"/>
                </a:solidFill>
                <a:latin typeface="Comic Sans MS"/>
              </a:rPr>
              <a:t>OXYGEN    </a:t>
            </a:r>
            <a:r>
              <a:rPr b="0" lang="en-GB" sz="2400" spc="-1" strike="noStrike">
                <a:solidFill>
                  <a:srgbClr val="e5e5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e5e5ff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Comic Sans MS"/>
              </a:rPr>
              <a:t>Aerobic respiration happens in </a:t>
            </a:r>
            <a:r>
              <a:rPr b="0" lang="en-GB" sz="3600" spc="-1" strike="noStrike">
                <a:solidFill>
                  <a:srgbClr val="e5e5ff"/>
                </a:solidFill>
                <a:latin typeface="Comic Sans MS"/>
              </a:rPr>
              <a:t>2</a:t>
            </a:r>
            <a:r>
              <a:rPr b="1" lang="en-GB" sz="3600" spc="-1" strike="noStrike">
                <a:solidFill>
                  <a:srgbClr val="e5e5ff"/>
                </a:solidFill>
                <a:latin typeface="Comic Sans MS"/>
              </a:rPr>
              <a:t> stages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57840" y="894600"/>
            <a:ext cx="2862720" cy="3712320"/>
            <a:chOff x="2157840" y="894600"/>
            <a:chExt cx="2862720" cy="3712320"/>
          </a:xfrm>
        </p:grpSpPr>
        <p:sp>
          <p:nvSpPr>
            <p:cNvPr id="213" name="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 rot="17146200">
              <a:off x="2490840" y="1093680"/>
              <a:ext cx="2196000" cy="23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86e0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a886e0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a886e0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e5ff"/>
                </a:solidFill>
                <a:latin typeface="Comic Sans MS"/>
              </a:rPr>
              <a:t>Stage 2 – </a:t>
            </a:r>
            <a:r>
              <a:rPr b="0" lang="en-GB" sz="3600" spc="-1" strike="noStrike" u="sng">
                <a:solidFill>
                  <a:srgbClr val="e5e5ff"/>
                </a:solidFill>
                <a:uFillTx/>
                <a:latin typeface="Comic Sans MS"/>
              </a:rPr>
              <a:t>Breakdown of pyruvic acid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a886e0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86e0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86e0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83080" y="91440"/>
            <a:ext cx="3560400" cy="5305680"/>
            <a:chOff x="3583080" y="91440"/>
            <a:chExt cx="3560400" cy="5305680"/>
          </a:xfrm>
        </p:grpSpPr>
        <p:sp>
          <p:nvSpPr>
            <p:cNvPr id="227" name="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4453800">
              <a:off x="3753720" y="623160"/>
              <a:ext cx="3218760" cy="279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ATP production</a:t>
            </a:r>
            <a:r>
              <a:rPr b="1" lang="en-GB" sz="4400" spc="-1" strike="noStrike">
                <a:solidFill>
                  <a:srgbClr val="e5e5ff"/>
                </a:solidFill>
                <a:latin typeface="Comic Sans MS"/>
              </a:rPr>
              <a:t> – </a:t>
            </a:r>
            <a:r>
              <a:rPr b="0" lang="en-GB" sz="4400" spc="-1" strike="noStrike">
                <a:solidFill>
                  <a:srgbClr val="e5e5ff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4840" y="4005360"/>
            <a:ext cx="2712600" cy="1871640"/>
            <a:chOff x="3804840" y="4005360"/>
            <a:chExt cx="2712600" cy="1871640"/>
          </a:xfrm>
        </p:grpSpPr>
        <p:sp>
          <p:nvSpPr>
            <p:cNvPr id="231" name=""/>
            <p:cNvSpPr/>
            <p:nvPr/>
          </p:nvSpPr>
          <p:spPr>
            <a:xfrm flipH="1" rot="10263000">
              <a:off x="3847680" y="4605480"/>
              <a:ext cx="262620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a886e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a886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23560" y="2133720"/>
            <a:ext cx="2676240" cy="1295280"/>
            <a:chOff x="3823560" y="2133720"/>
            <a:chExt cx="2676240" cy="1295280"/>
          </a:xfrm>
        </p:grpSpPr>
        <p:sp>
          <p:nvSpPr>
            <p:cNvPr id="239" name=""/>
            <p:cNvSpPr/>
            <p:nvPr/>
          </p:nvSpPr>
          <p:spPr>
            <a:xfrm flipH="1" rot="10263000">
              <a:off x="3848400" y="2520720"/>
              <a:ext cx="262620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a886e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a886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Summary of ATP 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Anaerobic Respiration</a:t>
            </a:r>
            <a:br>
              <a:rPr sz="5400"/>
            </a:b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(in animals)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Garamond"/>
              </a:rPr>
              <a:t>Adenosine triphosph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Garamond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Garamond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Garamond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Garamond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Garamond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Garamond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a886e0"/>
                </a:solidFill>
                <a:latin typeface="Comic Sans MS"/>
              </a:rPr>
              <a:t>In </a:t>
            </a: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1" lang="en-GB" sz="4000" spc="-1" strike="noStrike">
                <a:solidFill>
                  <a:srgbClr val="a886e0"/>
                </a:solidFill>
                <a:latin typeface="Comic Sans MS"/>
              </a:rPr>
              <a:t> oxygen conditions or during </a:t>
            </a:r>
            <a:r>
              <a:rPr b="0" lang="en-GB" sz="4000" spc="-1" strike="noStrike">
                <a:solidFill>
                  <a:srgbClr val="a886e0"/>
                </a:solidFill>
                <a:latin typeface="Comic Sans MS"/>
              </a:rPr>
              <a:t>heavy exercise</a:t>
            </a:r>
            <a:r>
              <a:rPr b="1" lang="en-GB" sz="4000" spc="-1" strike="noStrike">
                <a:solidFill>
                  <a:srgbClr val="a886e0"/>
                </a:solidFill>
                <a:latin typeface="Comic Sans MS"/>
              </a:rPr>
              <a:t>, when not enough oxygen can be supplied, muscle cells swap to </a:t>
            </a:r>
            <a:r>
              <a:rPr b="0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1" lang="en-GB" sz="40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514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28320" y="907920"/>
            <a:ext cx="4565520" cy="2308320"/>
            <a:chOff x="3928320" y="907920"/>
            <a:chExt cx="4565520" cy="2308320"/>
          </a:xfrm>
        </p:grpSpPr>
        <p:sp>
          <p:nvSpPr>
            <p:cNvPr id="249" name=""/>
            <p:cNvSpPr/>
            <p:nvPr/>
          </p:nvSpPr>
          <p:spPr>
            <a:xfrm flipH="1" rot="10263000">
              <a:off x="3990600" y="1282320"/>
              <a:ext cx="4440960" cy="11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A build up of lactic acid produces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A recovery period is needed.  During this time more </a:t>
            </a:r>
            <a:r>
              <a:rPr b="0" lang="en-GB" sz="2800" spc="-1" strike="noStrike" u="sng">
                <a:solidFill>
                  <a:srgbClr val="e5e5ff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The volume of oxygen needed is called the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Anaerobic Respiration </a:t>
            </a:r>
            <a:br>
              <a:rPr sz="5400"/>
            </a:b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in plants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425120" y="836640"/>
            <a:ext cx="4604040" cy="2521080"/>
            <a:chOff x="4425120" y="836640"/>
            <a:chExt cx="4604040" cy="2521080"/>
          </a:xfrm>
        </p:grpSpPr>
        <p:sp>
          <p:nvSpPr>
            <p:cNvPr id="274" name=""/>
            <p:cNvSpPr/>
            <p:nvPr/>
          </p:nvSpPr>
          <p:spPr>
            <a:xfrm flipH="1" rot="10263000">
              <a:off x="4494960" y="1259640"/>
              <a:ext cx="4463280" cy="12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e5e5ff"/>
                </a:solidFill>
                <a:uFillTx/>
                <a:latin typeface="Garamond"/>
              </a:rPr>
              <a:t>Comparison of aerobic and anaerobic respi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680"/>
                <a:gridCol w="2031840"/>
                <a:gridCol w="2239920"/>
              </a:tblGrid>
              <a:tr h="426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A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A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A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n dioxide and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t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l and carbon di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es ATP d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 u="sng">
                <a:solidFill>
                  <a:srgbClr val="e5e5ff"/>
                </a:solidFill>
                <a:uFillTx/>
                <a:latin typeface="Garamond"/>
              </a:rPr>
              <a:t>Structure of ATP  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109" name="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Formation of AT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121" name="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123" name="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130" name="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ised a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886e0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The role of AT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151" name="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153" name="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166" name="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23:20:25Z</dcterms:created>
  <dc:creator>clarksl</dc:creator>
  <dc:description/>
  <dc:language>en-US</dc:language>
  <cp:lastModifiedBy>clarksl</cp:lastModifiedBy>
  <dcterms:modified xsi:type="dcterms:W3CDTF">2007-12-09T23:22:24Z</dcterms:modified>
  <cp:revision>2</cp:revision>
  <dc:subject/>
  <dc:title>The Chemistry of Respiration</dc:title>
</cp:coreProperties>
</file>